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2039-0ED3-4CD6-9643-382B1C80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943-D6B1-4816-885C-BBF3FC8B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443B-195B-4202-B6F2-513D313E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31F-1FD8-4499-BB04-8C5BB7FE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5781-6A9C-4B07-8CAB-25BEADD9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5906-FB34-4ADA-AA39-3BC73793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E71C-45E3-4B99-863E-51E4F054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6355-60B4-430F-A132-E9E29247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38FA-AA43-45CB-BDC1-9D1A456B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A117-2519-41D1-B530-A455D2D5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319A-C8ED-4DED-B043-38CBE295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020-2FD2-4018-B6B0-769AB6E4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C6B4-7516-4644-ACC2-B8D24394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A2D5-3BD1-4AEB-AC9C-AED140A3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731E-BAE4-4D92-9634-0D12BB1D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C511-DBBB-4BBE-9C8D-29E7634C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DF2A-7AEE-4509-A7B0-905DED5D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A18-5335-4F67-815A-BE81BDF7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399-9F4E-48A0-A0F6-BC0F13BF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BDCF-CC4C-4A20-80B0-1F8A8C76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669-8E20-4847-BF34-02EE609E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E936-5122-48DA-A3AE-AC859FC7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244-DBEF-4D7F-A35C-9EBF5BE9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5E2C-026C-49A2-BCD7-A1819CD4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5b5d51"/>
              </a:gs>
              <a:gs pos="100000">
                <a:srgbClr val="686b5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525040"/>
                </a:gs>
                <a:gs pos="100000">
                  <a:srgbClr val="686b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75a4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a4e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457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7366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c6f6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3d2a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86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936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5b7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dad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dad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dad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dad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da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428C-60EC-43D3-82E6-08DB6DF765DE}" type="slidenum">
              <a:rPr b="0" lang="en-US" sz="1400" spc="-1" strike="noStrike">
                <a:solidFill>
                  <a:srgbClr val="dcdad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525040"/>
                </a:gs>
                <a:gs pos="100000">
                  <a:srgbClr val="686b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75a4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a4e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457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7366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c6f6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3d2a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dad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dad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dad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dad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da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6FEE-D779-4BA3-826E-9DC36F4353B8}" type="slidenum">
              <a:rPr b="0" lang="en-US" sz="1400" spc="-1" strike="noStrike">
                <a:solidFill>
                  <a:srgbClr val="dcdad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hyperlink" Target="http://www.freeplaymusic.com/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eb.mit.edu/invent/iow/nobel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ab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828800" y="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"/>
              </a:rPr>
              <a:t>DYNAMIT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"/>
              <a:ea typeface="comic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415920" y="3962520"/>
            <a:ext cx="196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9240" y="3922560"/>
            <a:ext cx="17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dad0"/>
                </a:solidFill>
                <a:latin typeface="Arial"/>
              </a:rPr>
              <a:t>Enrico Esteban</a:t>
            </a: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dad0"/>
                </a:solidFill>
                <a:latin typeface="Arial"/>
              </a:rPr>
              <a:t>9/15/2011</a:t>
            </a: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dad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dad0"/>
                </a:solidFill>
                <a:latin typeface="Arial"/>
              </a:rPr>
              <a:t>Computer 25</a:t>
            </a: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1905120" cy="1887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 flipH="1">
            <a:off x="3200400" y="4038480"/>
            <a:ext cx="1757520" cy="1954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86000" y="20574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03680" y="1789200"/>
            <a:ext cx="31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dad0"/>
                </a:solidFill>
                <a:latin typeface="Arial"/>
              </a:rPr>
              <a:t>Invented by: Alfred Noble</a:t>
            </a: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2590920"/>
            <a:ext cx="5181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dad0"/>
                </a:solidFill>
                <a:latin typeface="Arial"/>
              </a:rPr>
              <a:t>Music Free Play Music,</a:t>
            </a:r>
            <a:r>
              <a:rPr b="0" lang="en-US" sz="1800" spc="-1" strike="noStrike" u="sng">
                <a:solidFill>
                  <a:srgbClr val="dcdad0"/>
                </a:solidFill>
                <a:uFillTx/>
                <a:latin typeface="Arial"/>
              </a:rPr>
              <a:t>warewolf30</a:t>
            </a:r>
            <a:r>
              <a:rPr b="0" lang="en-US" sz="1800" spc="-1" strike="noStrike">
                <a:solidFill>
                  <a:srgbClr val="dcdad0"/>
                </a:solidFill>
                <a:latin typeface="Arial"/>
              </a:rPr>
              <a:t>, 9/23/2011,</a:t>
            </a: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5b7a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769608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6781680" y="1523880"/>
            <a:ext cx="158436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9.07514E-006 L 0.39167 -0.37734 E">
                                      <p:cBhvr>
                                        <p:cTn id="10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0901 L -0.39896 0.33086 E">
                                      <p:cBhvr>
                                        <p:cTn id="14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Adler"/>
          <p:cNvPicPr/>
          <p:nvPr/>
        </p:nvPicPr>
        <p:blipFill>
          <a:blip r:embed="rId1"/>
          <a:stretch/>
        </p:blipFill>
        <p:spPr>
          <a:xfrm>
            <a:off x="0" y="0"/>
            <a:ext cx="9144000" cy="2817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127160" y="3236760"/>
            <a:ext cx="649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Lemelsons  MIT program, </a:t>
            </a:r>
            <a:r>
              <a:rPr b="0" lang="en-US" sz="3200" spc="-1" strike="noStrike" u="sng">
                <a:solidFill>
                  <a:srgbClr val="dcdad0"/>
                </a:solidFill>
                <a:uFillTx/>
                <a:latin typeface="Arial"/>
              </a:rPr>
              <a:t>Alfred Noble</a:t>
            </a: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, September 19, 2011, </a:t>
            </a:r>
            <a:r>
              <a:rPr b="0" lang="en-US" sz="3200" spc="-1" strike="noStrike" u="sng">
                <a:solidFill>
                  <a:srgbClr val="85b7a9"/>
                </a:solidFill>
                <a:uFillTx/>
                <a:latin typeface="Arial"/>
                <a:hlinkClick r:id="rId2"/>
              </a:rPr>
              <a:t>http://web.mit.edu/invent/iow/nobel.htm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51055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dad0"/>
                </a:solidFill>
                <a:latin typeface="Arial"/>
              </a:rPr>
              <a:t>He was the first person to invent a dynamite    </a:t>
            </a: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Invention: Dynamite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A dynamite is mixed nitroglycerin with silica and turned the liquid into malleable paste.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It can be use to explode rocks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Miners use dynamite to drill holes 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It’s shape is a cylinder so its easy to put in  tight spaces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43200" y="4876920"/>
            <a:ext cx="179388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Inventor: Alfred Noble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Alfred Noble was an engineer 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He knows 5 language Swedish, French, Russian, English ,and German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He was born in October 21, 1833 in Stockholm Sweden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They moved to Russia when he was young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When he got older he started experimenting nitroglycerin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75640" y="4782960"/>
            <a:ext cx="1722240" cy="17845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3:55:44Z</dcterms:created>
  <dc:creator>install</dc:creator>
  <dc:description/>
  <dc:language>en-US</dc:language>
  <cp:lastModifiedBy>install</cp:lastModifiedBy>
  <dcterms:modified xsi:type="dcterms:W3CDTF">2011-09-26T13:58:58Z</dcterms:modified>
  <cp:revision>8</cp:revision>
  <dc:subject/>
  <dc:title>Slide 1</dc:title>
</cp:coreProperties>
</file>